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7EA9-AC48-450A-9F0A-4E9697B08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E32D-680F-49EE-9B5E-55C51671EFF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3E1-569D-498A-9634-563AA10B65B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8ABA-75A7-4047-B2AD-26D3F0AAAD3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A43-4613-4BF8-8B2E-10B393C7A4D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07CA-0C26-4CDB-8E56-D6964B4659B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C68C-BCB5-4F39-B1B4-2DF5F39F3EF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3BBD-2139-4CCF-A0ED-D16FE804474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E21-9D16-44CB-810A-32203AEE04D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A8A1-EEB6-4771-AB72-6E892DD38DB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DB8-A3D0-42DD-AB17-B4C67B2677E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202-B90F-40B1-A475-16A755ABE09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7522-9A67-4830-AA31-0E018BDBF3C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91F6-129F-4DA9-93BD-4AA9F42DA86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F49D-D4CC-444C-97A4-0AAECDBA222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1BDE-B42F-4CB5-8D8C-FBCA3E70C8B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9ECB-5437-4000-A6E0-35AEE425D8A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087F-E518-4D18-B87B-31B54100586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332-23F7-4311-9EBF-5833AB9D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8A8-4A35-434B-B818-3710A3E0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7BA-D429-4E4E-AA8A-2E4D4012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71B-4FCC-4A4F-AC35-DCD8E803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AE7D-87B1-450E-804B-9697571E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BF9E-D1B9-46EC-B4B1-5A8E648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2FA7-1809-400A-8631-4BEE652B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7A64-7597-41B7-909F-C8CC700B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21AE-EE65-48FB-A615-AE743706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7BF6-DAFE-4F93-9A6C-2D4AAF16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B36-2D56-4E89-A6B7-7A694DE9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5E7-8FFE-4622-84F1-7A003873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C487-85C1-4A0F-B3B3-1474E10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284F-F127-4D73-8E9D-02A8CFB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B670-87A6-4546-B34C-07DB3C20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E36C-BE2A-4667-8C7F-DF0B67B3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7DCF-B54A-400C-99FF-FEDEA332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F71-EA8E-4696-93B4-B61AFB82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406-2550-437D-BBCA-843EDC80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0DA-B738-484E-94FB-F6D0657E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A96-A8C2-46DB-9BA0-F7297666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508-73AC-4A82-8C84-A6834D9C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241-11ED-4567-9C61-1A25516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0EB-8FFB-43C1-AB3B-7A7FDCD9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5D9F-3731-4751-9ACE-83561924F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5601-6A70-4308-B98E-714E56B07733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Echalk email Session 4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09680" y="167652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Folders &amp; Searching eChalk Email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Let’s organize our inboxes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Create at least 2 new folders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Move &amp; organize your messages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If needed, clean out your folders (using delete)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2164"/>
                </a:solidFill>
                <a:latin typeface="Arial"/>
              </a:rPr>
              <a:t>Role play with a partner. Pretend one of you is the teacher &amp; the other is the iSquader. The teacher describes a lost message using key words, the sender, or subject of a message.  See if you can find it using Search. Switch roles.</a:t>
            </a: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folders did you set up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made searching successfu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1216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ometimes teachers are concerned that they are not getting their email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eck the space report for the folders.  Does the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en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mail (or other folder) need to be cleaned ou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ing Troubleshooting Ti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2) How do I recover a deleted messag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ing Troubleshooting Ti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1857600" y="2286000"/>
            <a:ext cx="5305320" cy="1905120"/>
            <a:chOff x="1857600" y="2286000"/>
            <a:chExt cx="5305320" cy="1905120"/>
          </a:xfrm>
        </p:grpSpPr>
        <p:pic>
          <p:nvPicPr>
            <p:cNvPr id="160" name="Picture 1024" descr=""/>
            <p:cNvPicPr/>
            <p:nvPr/>
          </p:nvPicPr>
          <p:blipFill>
            <a:blip r:embed="rId1"/>
            <a:stretch/>
          </p:blipFill>
          <p:spPr>
            <a:xfrm>
              <a:off x="2290320" y="2286000"/>
              <a:ext cx="4872600" cy="190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Group 8"/>
            <p:cNvGrpSpPr/>
            <p:nvPr/>
          </p:nvGrpSpPr>
          <p:grpSpPr>
            <a:xfrm>
              <a:off x="1857600" y="2616840"/>
              <a:ext cx="2063160" cy="1056240"/>
              <a:chOff x="1857600" y="2616840"/>
              <a:chExt cx="2063160" cy="1056240"/>
            </a:xfrm>
          </p:grpSpPr>
          <p:pic>
            <p:nvPicPr>
              <p:cNvPr id="162" name="Picture 5" descr="C:\Program Files\Microsoft Office\MEDIA\OFFICE12\Bullets\BD21298_.gif"/>
              <p:cNvPicPr/>
              <p:nvPr/>
            </p:nvPicPr>
            <p:blipFill>
              <a:blip r:embed="rId2"/>
              <a:stretch/>
            </p:blipFill>
            <p:spPr>
              <a:xfrm rot="8227800">
                <a:off x="3374640" y="3268800"/>
                <a:ext cx="528480" cy="25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5" descr="C:\Program Files\Microsoft Office\MEDIA\OFFICE12\Bullets\BD21298_.gif"/>
              <p:cNvPicPr/>
              <p:nvPr/>
            </p:nvPicPr>
            <p:blipFill>
              <a:blip r:embed="rId3"/>
              <a:stretch/>
            </p:blipFill>
            <p:spPr>
              <a:xfrm rot="3372000">
                <a:off x="1847520" y="2779200"/>
                <a:ext cx="528840" cy="25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4" name="TextBox 7"/>
          <p:cNvSpPr/>
          <p:nvPr/>
        </p:nvSpPr>
        <p:spPr>
          <a:xfrm>
            <a:off x="533520" y="4195800"/>
            <a:ext cx="8610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f the deleted messages are not being saved in the deleted mail folder, be sure that option has been selected (in Options folder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f a message has been deleted in the past 30 days, (but not on the same day it was received) contact eChalk for recovery. (support@echalk.com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folders be used to organize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help someone find a ‘lost’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folders be used to organize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help someone find a ‘lost’ emai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f you were to print every email you receive and file them in paper folders- how would you divide up/ organize the email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you think a teacher might divide his/her email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will be creating electronic folders to sort our inbox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ow is email organized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6" name="Picture 1024" descr=""/>
          <p:cNvPicPr/>
          <p:nvPr/>
        </p:nvPicPr>
        <p:blipFill>
          <a:blip r:embed="rId1"/>
          <a:stretch/>
        </p:blipFill>
        <p:spPr>
          <a:xfrm>
            <a:off x="382680" y="3048120"/>
            <a:ext cx="8380440" cy="3276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457200" y="2438280"/>
            <a:ext cx="1828800" cy="36828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2. Click Folders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57200" y="1828800"/>
            <a:ext cx="1523880" cy="36828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1. Login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858000" y="4648320"/>
            <a:ext cx="1523880" cy="119124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What does the space report tell you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 rot="6037200">
            <a:off x="460440" y="3614760"/>
            <a:ext cx="900000" cy="442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2590920" y="2133720"/>
            <a:ext cx="4495680" cy="825480"/>
          </a:xfrm>
          <a:prstGeom prst="rect">
            <a:avLst/>
          </a:prstGeom>
          <a:noFill/>
          <a:ln w="2844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the standard folder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is each folder used for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13980600">
            <a:off x="5864400" y="4614480"/>
            <a:ext cx="900000" cy="442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8397600">
            <a:off x="2322000" y="3776400"/>
            <a:ext cx="2190960" cy="442800"/>
          </a:xfrm>
          <a:prstGeom prst="rect">
            <a:avLst/>
          </a:prstGeom>
          <a:ln w="0">
            <a:noFill/>
          </a:ln>
        </p:spPr>
      </p:pic>
      <p:sp>
        <p:nvSpPr>
          <p:cNvPr id="114" name="Left-Up Arrow 13"/>
          <p:cNvSpPr/>
          <p:nvPr/>
        </p:nvSpPr>
        <p:spPr>
          <a:xfrm rot="2836200">
            <a:off x="2512800" y="5710320"/>
            <a:ext cx="761760" cy="761760"/>
          </a:xfrm>
          <a:prstGeom prst="pie">
            <a:avLst/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5334120" y="3048120"/>
            <a:ext cx="914400" cy="152280"/>
          </a:xfrm>
          <a:prstGeom prst="rect">
            <a:avLst/>
          </a:prstGeom>
          <a:solidFill>
            <a:srgbClr val="491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reate a New Fold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Picture 1024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6858000" cy="2681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3581280" y="4419720"/>
            <a:ext cx="46576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6037200">
            <a:off x="1374480" y="3081240"/>
            <a:ext cx="900360" cy="442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457200" y="2297160"/>
            <a:ext cx="2438280" cy="36828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1. Click Create Folder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705720" y="3733920"/>
            <a:ext cx="1523880" cy="368280"/>
          </a:xfrm>
          <a:prstGeom prst="rect">
            <a:avLst/>
          </a:prstGeom>
          <a:solidFill>
            <a:srgbClr val="1b1b54"/>
          </a:solidFill>
          <a:ln w="9360">
            <a:solidFill>
              <a:srgbClr val="d9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d5c5"/>
                </a:solidFill>
                <a:latin typeface="Arial"/>
              </a:rPr>
              <a:t>2.  Name it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838080" y="5943600"/>
            <a:ext cx="5334120" cy="368280"/>
          </a:xfrm>
          <a:prstGeom prst="rect">
            <a:avLst/>
          </a:prstGeom>
          <a:solidFill>
            <a:srgbClr val="1b1b54"/>
          </a:solidFill>
          <a:ln w="1908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3. Your new folder will appear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ove Messag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695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319104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Right Arrow 8"/>
          <p:cNvSpPr/>
          <p:nvPr/>
        </p:nvSpPr>
        <p:spPr>
          <a:xfrm>
            <a:off x="1066680" y="29718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00000"/>
          </a:solidFill>
          <a:ln w="25560">
            <a:solidFill>
              <a:srgbClr val="9f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04920" y="1981080"/>
            <a:ext cx="1523880" cy="91692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1. Check box next to email to mov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8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18190200">
            <a:off x="1809360" y="5610240"/>
            <a:ext cx="900000" cy="44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6037200">
            <a:off x="2559960" y="1709640"/>
            <a:ext cx="640080" cy="315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1"/>
          <p:cNvSpPr/>
          <p:nvPr/>
        </p:nvSpPr>
        <p:spPr>
          <a:xfrm>
            <a:off x="304920" y="4343400"/>
            <a:ext cx="1676160" cy="91692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2.  Click Move to Folder (either button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1" name="Picture 5" descr="C:\Program Files\Microsoft Office\MEDIA\OFFICE12\Bullets\BD21298_.gif"/>
          <p:cNvPicPr/>
          <p:nvPr/>
        </p:nvPicPr>
        <p:blipFill>
          <a:blip r:embed="rId5"/>
          <a:stretch/>
        </p:blipFill>
        <p:spPr>
          <a:xfrm rot="17871600">
            <a:off x="5389560" y="5081760"/>
            <a:ext cx="557280" cy="442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2"/>
          <p:cNvSpPr/>
          <p:nvPr/>
        </p:nvSpPr>
        <p:spPr>
          <a:xfrm>
            <a:off x="3124080" y="5562720"/>
            <a:ext cx="2438640" cy="119124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3. Off drop down menu, select folder to move message to. Click ok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earch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you find a ‘missing’ messag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543720" cy="3319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514600" y="4724280"/>
            <a:ext cx="876240" cy="113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 rot="3372000">
            <a:off x="1132920" y="3819240"/>
            <a:ext cx="528480" cy="258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380880" y="2895480"/>
            <a:ext cx="1219320" cy="64260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Click search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6781680" y="3733920"/>
            <a:ext cx="1524240" cy="256284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Choose which folder(s) to search. Narrow your search by entering the criteria you know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762120" y="5867280"/>
            <a:ext cx="5638680" cy="642600"/>
          </a:xfrm>
          <a:prstGeom prst="rect">
            <a:avLst/>
          </a:prstGeom>
          <a:solidFill>
            <a:srgbClr val="1b1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ed3"/>
                </a:solidFill>
                <a:latin typeface="Arial"/>
              </a:rPr>
              <a:t>Search by key word in the subject or body of email or by person it was Cc’d to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1" name="Picture 9" descr="C:\Program Files\Microsoft Office\MEDIA\OFFICE12\Bullets\BD21298_.gif"/>
          <p:cNvPicPr/>
          <p:nvPr/>
        </p:nvPicPr>
        <p:blipFill>
          <a:blip r:embed="rId4"/>
          <a:stretch/>
        </p:blipFill>
        <p:spPr>
          <a:xfrm rot="19407600">
            <a:off x="2006280" y="5465520"/>
            <a:ext cx="5284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actice searching for a message that you know the location of.  Was it found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criteria helped you locate i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3-04T01:16:19Z</dcterms:modified>
  <cp:revision>42</cp:revision>
  <dc:subject/>
  <dc:title>Workshop Title</dc:title>
</cp:coreProperties>
</file>